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C84-AD8A-41CD-9240-03EA8DA2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5DE-5B2C-4025-BD22-E01A260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7DE-4726-4CCA-B39D-8DB61D62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6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83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6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83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F94-7904-46FC-B87B-A8BE83A9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DEA-8582-4B53-B42D-21C69D5C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C96-5D87-4BA9-94B7-73822AF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085-4634-4EF7-AE71-3F6929E5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E19-D5B5-4366-8C66-EA28C35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43D-E513-4140-814C-B4A8893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F55-2146-47C6-B2BB-AA04F00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CE8-47EE-458C-B202-351BDADE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847-07EF-4C3D-A067-B4E54C01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7D0F-B38B-49A6-851B-6586815CA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padro.altanet.org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ravet.altanet.org/" TargetMode="External"/><Relationship Id="rId2" Type="http://schemas.openxmlformats.org/officeDocument/2006/relationships/hyperlink" Target="http://www.morell.cat/" TargetMode="External"/><Relationship Id="rId3" Type="http://schemas.openxmlformats.org/officeDocument/2006/relationships/hyperlink" Target="http://www.arnes.altanet.org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eo.altanet.org/EMap400/emapsearch.aspx?prjID=MASDEN&amp;scope=SWF&amp;Ortho=true&amp;lang=2" TargetMode="External"/><Relationship Id="rId2" Type="http://schemas.openxmlformats.org/officeDocument/2006/relationships/hyperlink" Target="http://egeo.altanet.org/EMap400/emapsearch.aspx?prjID=MASDEN&amp;scope=SWF&amp;Ortho=true&amp;lang=2" TargetMode="External"/><Relationship Id="rId3" Type="http://schemas.openxmlformats.org/officeDocument/2006/relationships/hyperlink" Target="http://egeo.altanet.org/EMap400/emapsearch.aspx?prjID=MASDEN&amp;scope=SWF&amp;Ortho=true&amp;lang=2" TargetMode="External"/><Relationship Id="rId4" Type="http://schemas.openxmlformats.org/officeDocument/2006/relationships/hyperlink" Target="http://www.sig.altanet.org/emap/buronet/Login.aspx?ReturnUrl=%2Femap%2Femapcfg.aspx%3Fprjid%3Dajmlc%26lang%3D2%26prjid=ajmlc%26cfg=ovc%26scale=35000%26utm=328104::4555948" TargetMode="External"/><Relationship Id="rId5" Type="http://schemas.openxmlformats.org/officeDocument/2006/relationships/hyperlink" Target="http://visor3d.altanet.org/Diputacio/diputacio.html" TargetMode="External"/><Relationship Id="rId6" Type="http://schemas.openxmlformats.org/officeDocument/2006/relationships/hyperlink" Target="http://egeo.altanet.org/emap400/emapstd.aspx?prjID=diptgna&amp;init=all&amp;lang=2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omptapre.altanet.org/absis" TargetMode="External"/><Relationship Id="rId2" Type="http://schemas.openxmlformats.org/officeDocument/2006/relationships/hyperlink" Target="http://ecomptapre.altanet.org/absis" TargetMode="External"/><Relationship Id="rId3" Type="http://schemas.openxmlformats.org/officeDocument/2006/relationships/hyperlink" Target="http://ecomptapre.altanet.org/absi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99"/>
                </a:solidFill>
                <a:latin typeface="Verdana"/>
              </a:rPr>
              <a:t>Jornada amb Localret.</a:t>
            </a:r>
            <a:br>
              <a:rPr sz="4400"/>
            </a:br>
            <a:r>
              <a:rPr b="1" lang="ca-ES" sz="4400" spc="-1" strike="noStrike">
                <a:solidFill>
                  <a:srgbClr val="333399"/>
                </a:solidFill>
                <a:latin typeface="Verdana"/>
              </a:rPr>
              <a:t>“Serveis als Ajuntaments de la Diputació de Tarragona” </a:t>
            </a:r>
            <a:br>
              <a:rPr sz="4400"/>
            </a:b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8000" y="4076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arragona, 16 abril de 20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Webs municip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Verdana"/>
              </a:rPr>
              <a:t>T-C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9999"/>
                </a:solidFill>
                <a:latin typeface="Verdana"/>
              </a:rPr>
              <a:t>Cartografia Dig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809086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eCOMPTA [Projecte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17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Verdana"/>
              </a:rPr>
              <a:t>PMH</a:t>
            </a:r>
            <a:br>
              <a:rPr sz="4800"/>
            </a:b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Padró Municipal d’Habita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unicipis fins a 20.000 habit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ny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nicipis Gestionats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43 (80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bitants Gestionats: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00.000 (25% de la proví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Accés a l’aplica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3370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Verdana"/>
              </a:rPr>
              <a:t>Alweb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Webs municip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municipis de la proví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Any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unicipis Gestionats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Exemple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xemple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xempl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36385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CAT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rvei de Certificació Dig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municipis de la proví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Any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ertificats emesos 2009:</a:t>
            </a: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5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ersonals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4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itat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rvidor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plicació i segell electrònic: </a:t>
            </a:r>
            <a:r>
              <a:rPr b="0" lang="es-ES" sz="1600" spc="-1" strike="noStrike">
                <a:solidFill>
                  <a:srgbClr val="333399"/>
                </a:solidFill>
                <a:latin typeface="Verdana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3105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Cartografía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99"/>
                </a:solidFill>
                <a:latin typeface="Verdana"/>
              </a:rPr>
              <a:t>FONTS CARTOGRÀFIQ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onveni Institut Cartogràfic de Cataluny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topogràfica 1:1.000 dels nuclis urb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topogràfica 1:5.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Imatges digitals i ortoimat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artografia de cada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Cartografia rústica i cartografia urba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onvenis company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FECSA-END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Cartografia Temàt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Mapes comarc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99"/>
                </a:solidFill>
                <a:latin typeface="Verdana"/>
              </a:rPr>
              <a:t>VISORS CARTOGRÀF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e-Map (</a:t>
            </a: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Provincia</a:t>
            </a: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flash 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</a:t>
            </a:r>
            <a:r>
              <a:rPr b="0" lang="ca-E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ccés a visor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Urbamap (</a:t>
            </a:r>
            <a:r>
              <a:rPr b="0" lang="ca-ES" sz="1600" spc="-1" strike="noStrike">
                <a:solidFill>
                  <a:srgbClr val="000000"/>
                </a:solidFill>
                <a:latin typeface="Verdana"/>
              </a:rPr>
              <a:t>accés a visor</a:t>
            </a: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Visor 3D 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(</a:t>
            </a:r>
            <a:r>
              <a:rPr b="0" lang="ca-ES" sz="16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accés a visor</a:t>
            </a:r>
            <a:r>
              <a:rPr b="0" lang="ca-ES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-compt@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Comptabilitat we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Àmbit: municipis de menys de 5000 habit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ici del servei: Any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unicipis Gestionats: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908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Accés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a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l’aplica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09:03Z</dcterms:created>
  <dc:creator> </dc:creator>
  <dc:description/>
  <dc:language>en-US</dc:language>
  <cp:lastModifiedBy> </cp:lastModifiedBy>
  <dcterms:modified xsi:type="dcterms:W3CDTF">2010-04-16T08:01:54Z</dcterms:modified>
  <cp:revision>28</cp:revision>
  <dc:subject/>
  <dc:title>Jornada amb Localret. “Serveis als Ajuntaments de la Diputació de Tarragona”   </dc:title>
</cp:coreProperties>
</file>