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gif" ContentType="image/gif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6384-1D7A-4291-A6AA-03F1D8BBB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00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05D2-294A-461F-A9DE-2576E8E2E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240" y="160020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57240" y="396432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94EF-EF8C-438F-ADF4-850C2EF66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2600" y="160020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8360" y="160020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2600" y="396432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8360" y="396432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3FE3-189D-4E17-B5ED-F44595757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0D48-5AA2-44B4-A765-454940AB5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E1EB-CBF3-4CF1-AE69-FC21A10E2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0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57240" y="1600200"/>
            <a:ext cx="390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2D25-9775-474D-B16D-2A8DA8B41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5CAB-AD2B-4700-AADB-C68C1CE45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8002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0122-F3D3-482A-8909-77DDC522B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57240" y="1600200"/>
            <a:ext cx="390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BCC3-DE0C-4DF4-8BBD-63E1571B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0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57240" y="160020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57240" y="396432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53DC-ABC7-4822-8E78-A6ECAC54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57240" y="160020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00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C3E2-839A-4D92-B873-EF51C1CC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908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0908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80908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80908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80908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F85B5-0BAD-49A6-AB4C-A0AB3F1CF1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www.padro.altanet.org/" TargetMode="Externa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miravet.altanet.org/" TargetMode="External"/><Relationship Id="rId2" Type="http://schemas.openxmlformats.org/officeDocument/2006/relationships/hyperlink" Target="http://www.morell.cat/" TargetMode="External"/><Relationship Id="rId3" Type="http://schemas.openxmlformats.org/officeDocument/2006/relationships/hyperlink" Target="http://www.arnes.altanet.org/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geo.altanet.org/EMap400/emapsearch.aspx?prjID=MASDEN&amp;scope=SWF&amp;Ortho=true&amp;lang=2" TargetMode="External"/><Relationship Id="rId2" Type="http://schemas.openxmlformats.org/officeDocument/2006/relationships/hyperlink" Target="http://egeo.altanet.org/EMap400/emapsearch.aspx?prjID=MASDEN&amp;scope=SWF&amp;Ortho=true&amp;lang=2" TargetMode="External"/><Relationship Id="rId3" Type="http://schemas.openxmlformats.org/officeDocument/2006/relationships/hyperlink" Target="http://egeo.altanet.org/EMap400/emapsearch.aspx?prjID=MASDEN&amp;scope=SWF&amp;Ortho=true&amp;lang=2" TargetMode="External"/><Relationship Id="rId4" Type="http://schemas.openxmlformats.org/officeDocument/2006/relationships/hyperlink" Target="http://www.sig.altanet.org/emap/buronet/Login.aspx?ReturnUrl=%2Femap%2Femapcfg.aspx%3Fprjid%3Dajmlc%26lang%3D2%26prjid=ajmlc%26cfg=ovc%26scale=35000%26utm=328104::4555948" TargetMode="External"/><Relationship Id="rId5" Type="http://schemas.openxmlformats.org/officeDocument/2006/relationships/hyperlink" Target="http://visor3d.altanet.org/Diputacio/diputacio.html" TargetMode="External"/><Relationship Id="rId6" Type="http://schemas.openxmlformats.org/officeDocument/2006/relationships/hyperlink" Target="http://egeo.altanet.org/emap400/emapstd.aspx?prjID=diptgna&amp;init=all&amp;lang=2" TargetMode="External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comptapre.altanet.org/absis" TargetMode="External"/><Relationship Id="rId2" Type="http://schemas.openxmlformats.org/officeDocument/2006/relationships/hyperlink" Target="http://ecomptapre.altanet.org/absis" TargetMode="External"/><Relationship Id="rId3" Type="http://schemas.openxmlformats.org/officeDocument/2006/relationships/hyperlink" Target="http://ecomptapre.altanet.org/absis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1052640"/>
            <a:ext cx="84582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99"/>
                </a:solidFill>
                <a:latin typeface="Verdana"/>
              </a:rPr>
              <a:t>Jornada amb Localret.</a:t>
            </a:r>
            <a:br>
              <a:rPr sz="4400"/>
            </a:br>
            <a:r>
              <a:rPr b="1" lang="ca-ES" sz="4400" spc="-1" strike="noStrike">
                <a:solidFill>
                  <a:srgbClr val="333399"/>
                </a:solidFill>
                <a:latin typeface="Verdana"/>
              </a:rPr>
              <a:t>“Serveis als Ajuntaments de la Diputació de Tarragona” </a:t>
            </a:r>
            <a:br>
              <a:rPr sz="4400"/>
            </a:br>
            <a:r>
              <a:rPr b="0" lang="ca-E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908000" y="4076640"/>
            <a:ext cx="64008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Tarragona, 16 abril de 201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8000" y="26028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809086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99"/>
                </a:solidFill>
                <a:latin typeface="Verdana"/>
              </a:rPr>
              <a:t>PM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809086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99"/>
                </a:solidFill>
                <a:latin typeface="Verdana"/>
              </a:rPr>
              <a:t>Webs municip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809086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99"/>
                </a:solidFill>
                <a:latin typeface="Verdana"/>
              </a:rPr>
              <a:t>T-C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809086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9999"/>
                </a:solidFill>
                <a:latin typeface="Verdana"/>
              </a:rPr>
              <a:t>Cartografia Digit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809086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Verdana"/>
              </a:rPr>
              <a:t>eCOMPTA [Projecte]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42920" y="549360"/>
            <a:ext cx="172404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800" spc="-1" strike="noStrike">
                <a:solidFill>
                  <a:srgbClr val="000000"/>
                </a:solidFill>
                <a:latin typeface="Verdana"/>
              </a:rPr>
              <a:t>PMH</a:t>
            </a:r>
            <a:br>
              <a:rPr sz="4800"/>
            </a:br>
            <a:r>
              <a:rPr b="0" lang="ca-ES" sz="2000" spc="-1" strike="noStrike">
                <a:solidFill>
                  <a:srgbClr val="000000"/>
                </a:solidFill>
                <a:latin typeface="Verdana"/>
              </a:rPr>
              <a:t>Padró Municipal d’Habitant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80908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Àmbit: 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municipis fins a 20.000 habita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80908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ici del servei: 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Any 200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80908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unicipis Gestionats: 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143 (80%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80908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abitants Gestionats: 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200.000 (25% de la provínci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80908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Accés a l’aplicació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924360" y="2997360"/>
            <a:ext cx="337032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Verdana"/>
              </a:rPr>
              <a:t>Alweb</a:t>
            </a:r>
            <a:br>
              <a:rPr sz="3200"/>
            </a:b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Webs municip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80908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Àmbit: </a:t>
            </a:r>
            <a:r>
              <a:rPr b="0" lang="es-ES" sz="1800" spc="-1" strike="noStrike">
                <a:solidFill>
                  <a:srgbClr val="333399"/>
                </a:solidFill>
                <a:latin typeface="Verdana"/>
              </a:rPr>
              <a:t>municipis de la provínc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80908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Inici del servei: </a:t>
            </a:r>
            <a:r>
              <a:rPr b="0" lang="es-ES" sz="1800" spc="-1" strike="noStrike">
                <a:solidFill>
                  <a:srgbClr val="333399"/>
                </a:solidFill>
                <a:latin typeface="Verdana"/>
              </a:rPr>
              <a:t>Any 200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80908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Municipis Gestionats: </a:t>
            </a:r>
            <a:r>
              <a:rPr b="0" lang="es-ES" sz="1800" spc="-1" strike="noStrike">
                <a:solidFill>
                  <a:srgbClr val="333399"/>
                </a:solidFill>
                <a:latin typeface="Verdana"/>
              </a:rPr>
              <a:t>6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80908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Exemple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80908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Exemple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80908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Exemple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611280" y="4149720"/>
            <a:ext cx="36385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TCAT</a:t>
            </a:r>
            <a:br>
              <a:rPr sz="3200"/>
            </a:b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Servei de Certificació Digit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80908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Àmbit: </a:t>
            </a:r>
            <a:r>
              <a:rPr b="0" lang="es-ES" sz="1800" spc="-1" strike="noStrike">
                <a:solidFill>
                  <a:srgbClr val="333399"/>
                </a:solidFill>
                <a:latin typeface="Verdana"/>
              </a:rPr>
              <a:t>municipis de la provínc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80908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Inici del servei: </a:t>
            </a:r>
            <a:r>
              <a:rPr b="0" lang="es-ES" sz="1800" spc="-1" strike="noStrike">
                <a:solidFill>
                  <a:srgbClr val="333399"/>
                </a:solidFill>
                <a:latin typeface="Verdana"/>
              </a:rPr>
              <a:t>Any 200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80908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ertificats emesos 2009:</a:t>
            </a:r>
            <a:r>
              <a:rPr b="0" lang="es-ES" sz="1800" spc="-1" strike="noStrike">
                <a:solidFill>
                  <a:srgbClr val="333399"/>
                </a:solidFill>
                <a:latin typeface="Verdana"/>
              </a:rPr>
              <a:t>50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80908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Personals: </a:t>
            </a:r>
            <a:r>
              <a:rPr b="0" lang="es-ES" sz="1600" spc="-1" strike="noStrike">
                <a:solidFill>
                  <a:srgbClr val="333399"/>
                </a:solidFill>
                <a:latin typeface="Verdana"/>
              </a:rPr>
              <a:t>42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80908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Entitat: </a:t>
            </a:r>
            <a:r>
              <a:rPr b="0" lang="es-ES" sz="1600" spc="-1" strike="noStrike">
                <a:solidFill>
                  <a:srgbClr val="333399"/>
                </a:solidFill>
                <a:latin typeface="Verdana"/>
              </a:rPr>
              <a:t>19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80908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Servidor: </a:t>
            </a:r>
            <a:r>
              <a:rPr b="0" lang="es-ES" sz="1600" spc="-1" strike="noStrike">
                <a:solidFill>
                  <a:srgbClr val="333399"/>
                </a:solidFill>
                <a:latin typeface="Verdana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80908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Aplicació i segell electrònic: </a:t>
            </a:r>
            <a:r>
              <a:rPr b="0" lang="es-ES" sz="1600" spc="-1" strike="noStrike">
                <a:solidFill>
                  <a:srgbClr val="333399"/>
                </a:solidFill>
                <a:latin typeface="Verdana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708360" y="4005360"/>
            <a:ext cx="310536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Cartografía Digit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333399"/>
                </a:solidFill>
                <a:latin typeface="Verdana"/>
              </a:rPr>
              <a:t>FONTS CARTOGRÀFIQU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400"/>
              </a:spcBef>
              <a:buClr>
                <a:srgbClr val="80908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Verdana"/>
              </a:rPr>
              <a:t>Conveni Institut Cartogràfic de Cataluny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349"/>
              </a:spcBef>
              <a:buClr>
                <a:srgbClr val="80908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Verdana"/>
              </a:rPr>
              <a:t>Cartografia topogràfica 1:1.000 dels nuclis urba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349"/>
              </a:spcBef>
              <a:buClr>
                <a:srgbClr val="80908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Verdana"/>
              </a:rPr>
              <a:t>Cartografia topogràfica 1:5.0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349"/>
              </a:spcBef>
              <a:buClr>
                <a:srgbClr val="80908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Verdana"/>
              </a:rPr>
              <a:t>Imatges digitals i ortoimat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400"/>
              </a:spcBef>
              <a:buClr>
                <a:srgbClr val="80908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Verdana"/>
              </a:rPr>
              <a:t>Cartografia de cadastr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349"/>
              </a:spcBef>
              <a:buClr>
                <a:srgbClr val="80908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Verdana"/>
              </a:rPr>
              <a:t>Cartografia rústica i cartografia urban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400"/>
              </a:spcBef>
              <a:buClr>
                <a:srgbClr val="80908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Verdana"/>
              </a:rPr>
              <a:t>Convenis companyi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349"/>
              </a:spcBef>
              <a:buClr>
                <a:srgbClr val="80908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a-ES" sz="1400" spc="-1" strike="noStrike">
                <a:solidFill>
                  <a:srgbClr val="000000"/>
                </a:solidFill>
                <a:latin typeface="Verdana"/>
              </a:rPr>
              <a:t>FECSA-ENDES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400"/>
              </a:spcBef>
              <a:buClr>
                <a:srgbClr val="80908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Verdana"/>
              </a:rPr>
              <a:t>Cartografia Temàtic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349"/>
              </a:spcBef>
              <a:buClr>
                <a:srgbClr val="80908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Verdana"/>
              </a:rPr>
              <a:t>Mapes comarcal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333399"/>
                </a:solidFill>
                <a:latin typeface="Verdana"/>
              </a:rPr>
              <a:t>VISORS CARTOGRÀFIC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Verdana"/>
              </a:rPr>
              <a:t>Visor e-Map (</a:t>
            </a:r>
            <a:r>
              <a:rPr b="0" lang="ca-ES" sz="1600" spc="-1" strike="noStrike">
                <a:solidFill>
                  <a:srgbClr val="000000"/>
                </a:solidFill>
                <a:latin typeface="Verdana"/>
              </a:rPr>
              <a:t>Provincia</a:t>
            </a:r>
            <a:r>
              <a:rPr b="0" lang="ca-E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Verdana"/>
              </a:rPr>
              <a:t>Visor flash </a:t>
            </a:r>
            <a:r>
              <a:rPr b="0" lang="ca-ES" sz="18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(</a:t>
            </a:r>
            <a:r>
              <a:rPr b="0" lang="ca-ES" sz="16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accés a visor</a:t>
            </a:r>
            <a:r>
              <a:rPr b="0" lang="ca-ES" sz="18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Verdana"/>
              </a:rPr>
              <a:t>Urbamap (</a:t>
            </a:r>
            <a:r>
              <a:rPr b="0" lang="ca-ES" sz="1600" spc="-1" strike="noStrike">
                <a:solidFill>
                  <a:srgbClr val="000000"/>
                </a:solidFill>
                <a:latin typeface="Verdana"/>
              </a:rPr>
              <a:t>accés a visor</a:t>
            </a:r>
            <a:r>
              <a:rPr b="0" lang="ca-E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Verdana"/>
              </a:rPr>
              <a:t>Visor 3D </a:t>
            </a:r>
            <a:r>
              <a:rPr b="0" lang="ca-ES" sz="1800" spc="-1" strike="noStrike" u="sng">
                <a:solidFill>
                  <a:srgbClr val="009999"/>
                </a:solidFill>
                <a:uFillTx/>
                <a:latin typeface="Verdana"/>
                <a:hlinkClick r:id="rId4"/>
              </a:rPr>
              <a:t>(</a:t>
            </a:r>
            <a:r>
              <a:rPr b="0" lang="ca-ES" sz="1600" spc="-1" strike="noStrike" u="sng">
                <a:solidFill>
                  <a:srgbClr val="009999"/>
                </a:solidFill>
                <a:uFillTx/>
                <a:latin typeface="Verdana"/>
                <a:hlinkClick r:id="rId5"/>
              </a:rPr>
              <a:t>accés a visor</a:t>
            </a:r>
            <a:r>
              <a:rPr b="0" lang="ca-ES" sz="1800" spc="-1" strike="noStrike" u="sng">
                <a:solidFill>
                  <a:srgbClr val="009999"/>
                </a:solidFill>
                <a:uFillTx/>
                <a:latin typeface="Verdana"/>
                <a:hlinkClick r:id="rId6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E-compt@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Comptabilitat web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80908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Àmbit: municipis de menys de 5000 habita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80908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Inici del servei: Any 201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80908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Municipis Gestionats: 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80908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Accés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 a 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l’aplicació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6:09:03Z</dcterms:created>
  <dc:creator> </dc:creator>
  <dc:description/>
  <dc:language>en-US</dc:language>
  <cp:lastModifiedBy> </cp:lastModifiedBy>
  <dcterms:modified xsi:type="dcterms:W3CDTF">2010-04-16T08:01:54Z</dcterms:modified>
  <cp:revision>28</cp:revision>
  <dc:subject/>
  <dc:title>Jornada amb Localret. “Serveis als Ajuntaments de la Diputació de Tarragona”   </dc:title>
</cp:coreProperties>
</file>